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5469-6F53-4D46-9617-2A275489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5D24-ED00-4291-87EA-72020399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963-FE95-4584-B1FE-CF452AD9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B405-CFDC-4132-8F6E-8194EBAA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B6F-4D9A-4A3D-B034-7D8BB49F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E33-D0F8-494F-86AE-EEF8353A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F51E-9647-4072-95C5-C4777069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C49-C872-4E92-A127-D2DB40A6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5D82-A23F-40EC-A9DD-CFFF936D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266-3C43-42A5-8A8B-E6C7DAE7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847-7468-4BD6-9CC0-3DB3064A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E9F6-CDB3-4F24-B2D7-8553F0F3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7F41-018F-46A7-A171-F8D46851E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рвная систем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52720" y="1600200"/>
            <a:ext cx="3237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нятие нервной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́рвная систе́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целостная морфологическая и функциональная совокупность различных взаимосвязанных нервных структур, которая совместно с гуморальной системой обеспечивает взаимосвязанную регуляцию деятельности всех систем организма и реакцию на изменение условий внутренней и внешней среды. Нервная система действует как интегративная система, связывая в одно цело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увстви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вигательную активность и работу других регуляторных систем (эндокринной и иммунно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нервной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Центральная нервная сист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головной моз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спинной моз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Периферическая нервная сист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г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нер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нервные оконч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ловной моз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19280" y="1135080"/>
            <a:ext cx="604836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инной моз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093680"/>
            <a:ext cx="78487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иферическая нерв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333600" cy="4267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34416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1:53:43Z</dcterms:created>
  <dc:creator>guest</dc:creator>
  <dc:description/>
  <dc:language>en-US</dc:language>
  <cp:lastModifiedBy>guest</cp:lastModifiedBy>
  <dcterms:modified xsi:type="dcterms:W3CDTF">2010-12-02T12:16:50Z</dcterms:modified>
  <cp:revision>2</cp:revision>
  <dc:subject/>
  <dc:title>Нервная система человека</dc:title>
</cp:coreProperties>
</file>